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9042C-B704-460D-91D3-E5D089B86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72561-CCE6-48BA-9A27-3DF78A3F4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55B46-D686-4811-9E7A-5E115E7DF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F61B9-1CE2-4FF2-A09A-C9B76E842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2614-E60D-4743-9CFB-6C282DAF4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9B84-6CA3-42BA-BF96-A7456231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3CDAB-ECCC-483C-B394-FB036E45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DDD1-882F-4819-8506-E048E9757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59920"/>
            <a:ext cx="822780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8BF2-7578-48CD-8915-3FF39498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76C7-C5B8-4D33-959D-106C4C15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8D3D-92C7-4379-BE08-2B15534D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Frutiger 55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C912-EB1A-4467-976B-5041BFC57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97000"/>
          </a:xfrm>
          <a:prstGeom prst="rect">
            <a:avLst/>
          </a:prstGeom>
          <a:ln w="0">
            <a:noFill/>
          </a:ln>
        </p:spPr>
      </p:pic>
      <p:sp>
        <p:nvSpPr>
          <p:cNvPr id="1" name="PlaceHolder 1"/>
          <p:cNvSpPr>
            <a:spLocks noGrp="1"/>
          </p:cNvSpPr>
          <p:nvPr>
            <p:ph type="title"/>
          </p:nvPr>
        </p:nvSpPr>
        <p:spPr>
          <a:xfrm>
            <a:off x="468000" y="259920"/>
            <a:ext cx="82278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ffffff"/>
                </a:solidFill>
                <a:latin typeface="Frutiger-Bold"/>
              </a:rPr>
              <a:t>Click to edit the title text format</a:t>
            </a:r>
            <a:endParaRPr b="0" lang="en-US" sz="4000" spc="-1" strike="noStrike">
              <a:solidFill>
                <a:srgbClr val="ffffff"/>
              </a:solidFill>
              <a:latin typeface="Frutiger-Bold"/>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Click to edit the outline text format</a:t>
            </a:r>
            <a:endParaRPr b="0" lang="en-US" sz="3200" spc="-1" strike="noStrike">
              <a:solidFill>
                <a:srgbClr val="000000"/>
              </a:solidFill>
              <a:latin typeface="Frutiger 55 Roman"/>
            </a:endParaRPr>
          </a:p>
          <a:p>
            <a:pPr lvl="1" marL="741240" indent="-28404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econd Outline Level</a:t>
            </a:r>
            <a:endParaRPr b="0" lang="en-US" sz="3200" spc="-1" strike="noStrike">
              <a:solidFill>
                <a:srgbClr val="000000"/>
              </a:solidFill>
              <a:latin typeface="Frutiger 55 Roman"/>
            </a:endParaRPr>
          </a:p>
          <a:p>
            <a:pPr lvl="2" marL="11430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Third Outline Level</a:t>
            </a:r>
            <a:endParaRPr b="0" lang="en-US" sz="3200" spc="-1" strike="noStrike">
              <a:solidFill>
                <a:srgbClr val="000000"/>
              </a:solidFill>
              <a:latin typeface="Frutiger 55 Roman"/>
            </a:endParaRPr>
          </a:p>
          <a:p>
            <a:pPr lvl="3" marL="16002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Fourth Outline Level</a:t>
            </a:r>
            <a:endParaRPr b="0" lang="en-US" sz="3200" spc="-1" strike="noStrike">
              <a:solidFill>
                <a:srgbClr val="000000"/>
              </a:solidFill>
              <a:latin typeface="Frutiger 55 Roman"/>
            </a:endParaRPr>
          </a:p>
          <a:p>
            <a:pPr lvl="4"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Fifth Outline Level</a:t>
            </a:r>
            <a:endParaRPr b="0" lang="en-US" sz="3200" spc="-1" strike="noStrike">
              <a:solidFill>
                <a:srgbClr val="000000"/>
              </a:solidFill>
              <a:latin typeface="Frutiger 55 Roman"/>
            </a:endParaRPr>
          </a:p>
          <a:p>
            <a:pPr lvl="5"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ixth Outline Level</a:t>
            </a:r>
            <a:endParaRPr b="0" lang="en-US" sz="3200" spc="-1" strike="noStrike">
              <a:solidFill>
                <a:srgbClr val="000000"/>
              </a:solidFill>
              <a:latin typeface="Frutiger 55 Roman"/>
            </a:endParaRPr>
          </a:p>
          <a:p>
            <a:pPr lvl="6" marL="2057400" indent="-228600">
              <a:lnSpc>
                <a:spcPct val="93000"/>
              </a:lnSpc>
              <a:spcBef>
                <a:spcPts val="799"/>
              </a:spcBef>
              <a:buClr>
                <a:srgbClr val="000000"/>
              </a:buClr>
              <a:buFont typeface="Frutiger 55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utiger 55 Roman"/>
              </a:rPr>
              <a:t>Seventh Outline Level</a:t>
            </a:r>
            <a:endParaRPr b="0" lang="en-US" sz="3200" spc="-1" strike="noStrike">
              <a:solidFill>
                <a:srgbClr val="000000"/>
              </a:solidFill>
              <a:latin typeface="Frutiger 55 Roman"/>
            </a:endParaRPr>
          </a:p>
        </p:txBody>
      </p:sp>
      <p:sp>
        <p:nvSpPr>
          <p:cNvPr id="3"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Lucida Sans Unicode"/>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Lucida Sans Unicode"/>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11418-0AE9-4720-AD0B-28E2956F65B1}"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0" y="6237360"/>
            <a:ext cx="914400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04560"/>
            <a:ext cx="8229600" cy="114444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ffffff"/>
              </a:solidFill>
              <a:latin typeface="Frutiger-Bold"/>
            </a:endParaRPr>
          </a:p>
        </p:txBody>
      </p:sp>
      <p:pic>
        <p:nvPicPr>
          <p:cNvPr id="44" name="" descr=""/>
          <p:cNvPicPr/>
          <p:nvPr/>
        </p:nvPicPr>
        <p:blipFill>
          <a:blip r:embed="rId1"/>
          <a:stretch/>
        </p:blipFill>
        <p:spPr>
          <a:xfrm>
            <a:off x="0" y="0"/>
            <a:ext cx="9144000" cy="4159080"/>
          </a:xfrm>
          <a:prstGeom prst="rect">
            <a:avLst/>
          </a:prstGeom>
          <a:ln w="0">
            <a:noFill/>
          </a:ln>
        </p:spPr>
      </p:pic>
      <p:pic>
        <p:nvPicPr>
          <p:cNvPr id="45" name="" descr=""/>
          <p:cNvPicPr/>
          <p:nvPr/>
        </p:nvPicPr>
        <p:blipFill>
          <a:blip r:embed="rId2"/>
          <a:stretch/>
        </p:blipFill>
        <p:spPr>
          <a:xfrm>
            <a:off x="0" y="5408640"/>
            <a:ext cx="9144000" cy="1449360"/>
          </a:xfrm>
          <a:prstGeom prst="rect">
            <a:avLst/>
          </a:prstGeom>
          <a:ln w="0">
            <a:noFill/>
          </a:ln>
        </p:spPr>
      </p:pic>
      <p:sp>
        <p:nvSpPr>
          <p:cNvPr id="46" name=""/>
          <p:cNvSpPr/>
          <p:nvPr/>
        </p:nvSpPr>
        <p:spPr>
          <a:xfrm>
            <a:off x="1979640" y="4437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Frutiger-Bold"/>
              </a:rPr>
              <a:t>São Paulo, 19 e 20 de junho de 2008</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5" name="PlaceHolder 2"/>
          <p:cNvSpPr>
            <a:spLocks noGrp="1"/>
          </p:cNvSpPr>
          <p:nvPr>
            <p:ph/>
          </p:nvPr>
        </p:nvSpPr>
        <p:spPr>
          <a:xfrm>
            <a:off x="411120" y="159336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IMPLEMENTAR E CONSOLIDAR A GESTÃO DEMOCRÁTICA DA POLÍTICA URBANA E HABITACIONAL DE MODO A ASSEGURAR A PATICIPAÇÃO DA SOCIEDADE E O CONTROLE SOCIAL DESTAS POLÍTICASIMPLEMENTAR E CONSOLIDAR A GESTÃO DEMOCRÁTICA DA POLÍTICA URBANA E HABITACIONAL DE MODO A ASSEGURAR A PATICIPAÇÃO DA SOCIEDADE E O CONTROLE SOCIAL DESTAS POLÍTICAS</a:t>
            </a:r>
            <a:endParaRPr b="0" lang="en-US" sz="2800" spc="-1" strike="noStrike">
              <a:solidFill>
                <a:srgbClr val="000000"/>
              </a:solidFill>
              <a:latin typeface="Frutiger 55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mover a regularização fundiária de assentamentos precários , compreendendo as dimensões jurídica ( segurança jurídica da posse -   registro público), fisica urbanistico e ambiental) e social para fins de  legalizar a permanência de populações moradoras de áreas urbanas ocupadas em desconformidade com a lei,  ou que tenham legalmente direitos reais constituídos para fins de habitação, implicando acessoriamente melhorias no ambiente urbano do assentamento.</a:t>
            </a:r>
            <a:endParaRPr b="0" lang="en-US" sz="2800" spc="-1" strike="noStrike">
              <a:solidFill>
                <a:srgbClr val="000000"/>
              </a:solidFill>
              <a:latin typeface="Frutiger 55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69" name="PlaceHolder 2"/>
          <p:cNvSpPr>
            <a:spLocks noGrp="1"/>
          </p:cNvSpPr>
          <p:nvPr>
            <p:ph/>
          </p:nvPr>
        </p:nvSpPr>
        <p:spPr>
          <a:xfrm>
            <a:off x="360360" y="1413000"/>
            <a:ext cx="8229600" cy="4566960"/>
          </a:xfrm>
          <a:prstGeom prst="rect">
            <a:avLst/>
          </a:prstGeom>
          <a:noFill/>
          <a:ln w="0">
            <a:noFill/>
          </a:ln>
        </p:spPr>
        <p:txBody>
          <a:bodyPr lIns="0" rIns="0" tIns="0" bIns="0" anchor="t">
            <a:normAutofit fontScale="99000"/>
          </a:bodyPr>
          <a:p>
            <a:pPr marL="3376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PROMOVER UM DIAGNÓSTICO SOBRE AS NECESSIDADES HABITACIONAIS DO MUNICÍPIO OU  DA REGIÃO ( EM ESPECIAL NAS REGIÕES FORMADAS POR PEQUENOS MUNICÍPIOS), ABRANGENDO AS NECESSIDADES DA POPULAÇÃO QUE VIVE NA CIDADE E NO CAMPO</a:t>
            </a:r>
            <a:endParaRPr b="0" lang="en-US" sz="28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UTILIZAR QUANDO HOUVER O DIAGNÓSTICO, LEITURA TÉCNICA  FEITA PELO MUNICÍPIO PARA O PLANO DIRETOR</a:t>
            </a:r>
            <a:endParaRPr b="0" lang="en-US" sz="2800" spc="-1" strike="noStrike">
              <a:solidFill>
                <a:srgbClr val="000000"/>
              </a:solidFill>
              <a:latin typeface="Frutiger 55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Times New Roman"/>
              </a:rPr>
              <a:t>PROMOVER  A IDENTIFICAÇÃO E  MAPEAMENTO  DE TERRAS, IMÓVEIS DISPONÍVEIS  NA ZONAS DEFINIDAS COMO URBANA OU DE EXPANSÃO URBANA  QUANDO HOUVER  DEFINIDAS PELO PLANO DIRETOR OU NA LEGISLAÇÃO DE USO E OCUPAÇÃO DO SOLO  COM  POTENCIAL PARA SEREM UTILIZADOS PARA PRODUÇÃO DE HABITAÇÃO DE INTERESSE SOCIAL </a:t>
            </a:r>
            <a:endParaRPr b="0" lang="en-US" sz="2600" spc="-1" strike="noStrike">
              <a:solidFill>
                <a:srgbClr val="000000"/>
              </a:solidFill>
              <a:latin typeface="Frutiger 55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Times New Roman"/>
              </a:rPr>
              <a:t>IMÓVEIS  DISPONÍVEIS   - IMÓVEIS NÃO UTILIZADOS, NÃO EDIFICADOS,  OU SUBUTILIZADOS  SITUADOS EM ÁREAS DOTADAS DE INFRA-ESTRUTURA E SERVIÇOS  URBANOS COM BASE NA NO ESTATUTO DA CIDADE</a:t>
            </a:r>
            <a:endParaRPr b="0" lang="en-US" sz="3200" spc="-1" strike="noStrike">
              <a:solidFill>
                <a:srgbClr val="000000"/>
              </a:solidFill>
              <a:latin typeface="Frutiger 55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000000"/>
                </a:solidFill>
                <a:latin typeface="Frutiger 55 Roman"/>
              </a:rPr>
              <a:t>PARA A  REGULARIZAÇÃO FUNDIÁRIA</a:t>
            </a:r>
            <a:endParaRPr b="0" lang="en-US" sz="28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IDENTIFICAR E REALIZAR UM INVENTÁRIO SOBRE OS IMÓVEIS URBANOS  OCUPADOS INFORMALMENTE OU DE FORMA IRREGULAR POR GRUPOS SOCIAIS, COMUNIDADES DE BAIXA RENDA OU POPULAÇÕES TRADICIONAIS ( populações ribeirinhas, de pescadores, agricultores,  populações quilombolas)</a:t>
            </a:r>
            <a:endParaRPr b="0" lang="en-US" sz="2800" spc="-1" strike="noStrike">
              <a:solidFill>
                <a:srgbClr val="000000"/>
              </a:solidFill>
              <a:latin typeface="Frutiger 55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Frutiger 55 Roman"/>
              </a:rPr>
              <a:t>SOBRE A LEGISLAÇÃO  URBANA  </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PROMOVER A LEITURA SOBRE  O ESTÁGIO DA  APLICAÇÃO DOS INSTRUMENTOS DE  POLÍTICA URBANA E REGULARIZAÇÃO FUNDIÁRIA  NO MUNICÍPIO  DE MODO A VERIFICAR:</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 TRATAMENTO DA POLÍTICA FUNDIÁRIA NO PLANO DIRETOR  QUE POSSIBILITE A FORMAÇÃO DE RESERVAS DE TERRA ,IMÓVEIS URBANOS PARA A PRODUÇÃO DE HABITAÇÃO DE INTERESSE SOCIAL </a:t>
            </a:r>
            <a:endParaRPr b="0" lang="en-US" sz="2600" spc="-1" strike="noStrike">
              <a:solidFill>
                <a:srgbClr val="000000"/>
              </a:solidFill>
              <a:latin typeface="Frutiger 55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79" name="PlaceHolder 2"/>
          <p:cNvSpPr>
            <a:spLocks noGrp="1"/>
          </p:cNvSpPr>
          <p:nvPr>
            <p:ph/>
          </p:nvPr>
        </p:nvSpPr>
        <p:spPr>
          <a:xfrm>
            <a:off x="411120" y="1599840"/>
            <a:ext cx="8229600" cy="47005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VERIFICAR SE O PLANO DIRETOROU LEGISLAÇÃO MUNICIPAL REGULAMENTOU OU NÃO OS SEGUINTES INSTRUMENTOS PARA AUTO APLICAÇÃO </a:t>
            </a:r>
            <a:endParaRPr b="0" lang="en-US" sz="2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DIREITO DE PREEMPÇÃO </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DIREITO DE SUPERFÍCIE</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OUTORGA ONEROSA DO DIREITO DE CONSTRUIR</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TRANSFERÊNCIA DO DIREITO DE CONSTRUIR</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CONSÓRCIO IMOBILIÁRIO</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 </a:t>
            </a:r>
            <a:r>
              <a:rPr b="0" lang="en-GB" sz="2200" spc="-1" strike="noStrike">
                <a:solidFill>
                  <a:srgbClr val="000000"/>
                </a:solidFill>
                <a:latin typeface="Frutiger 55 Roman"/>
              </a:rPr>
              <a:t>DA DAÇÃO EM PAGAMENTO DE IMÓVEL URBANO </a:t>
            </a:r>
            <a:endParaRPr b="0" lang="en-US" sz="2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Frutiger 55 Roman"/>
              </a:rPr>
              <a:t> </a:t>
            </a:r>
            <a:r>
              <a:rPr b="0" lang="en-GB" sz="2200" spc="-1" strike="noStrike">
                <a:solidFill>
                  <a:srgbClr val="000000"/>
                </a:solidFill>
                <a:latin typeface="Frutiger 55 Roman"/>
              </a:rPr>
              <a:t>DO ABANDONO  DE IMÓVEL URBANO OU RURAL – CÓDIGO  CIVIL -ART. 1276</a:t>
            </a:r>
            <a:endParaRPr b="0" lang="en-US" sz="2200" spc="-1" strike="noStrike">
              <a:solidFill>
                <a:srgbClr val="000000"/>
              </a:solidFill>
              <a:latin typeface="Frutiger 55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1" name="PlaceHolder 2"/>
          <p:cNvSpPr>
            <a:spLocks noGrp="1"/>
          </p:cNvSpPr>
          <p:nvPr>
            <p:ph/>
          </p:nvPr>
        </p:nvSpPr>
        <p:spPr>
          <a:xfrm>
            <a:off x="539640" y="1260000"/>
            <a:ext cx="8229600" cy="476748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ESTES INSTRUMENTOS SÃO VOLTADOS PARA POSSIBILITAR </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 </a:t>
            </a:r>
            <a:r>
              <a:rPr b="0" lang="en-GB" sz="2400" spc="-1" strike="noStrike">
                <a:solidFill>
                  <a:srgbClr val="000000"/>
                </a:solidFill>
                <a:latin typeface="Frutiger 55 Roman"/>
              </a:rPr>
              <a:t>A FORMAÇÃO DE BANCO DE TERRAS OU DE RESERVA LEGAL DE TERRAS PARA A PRODUÇÃO DE HIS</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 </a:t>
            </a:r>
            <a:r>
              <a:rPr b="0" lang="en-GB" sz="2400" spc="-1" strike="noStrike">
                <a:solidFill>
                  <a:srgbClr val="000000"/>
                </a:solidFill>
                <a:latin typeface="Frutiger 55 Roman"/>
              </a:rPr>
              <a:t>FORMAS  JURÍDICAS DE DE PARCERIA , COOPERAÇÃO , ASSOCIAÇÃO ENTRE PROPRIETÁRIOS E EMPREENDEDORES ( QUE PODEM SER O PODER PÚBLICO ASSOCIAÇÕES CIVIS SEM FINS LUCRATIVOS, COOPERATIVAS HABITACIONAIS  NOS TERMOS DA LEI DO SISTEMA NACIONAL DE HABITAÇÃO DE INTERESSE SOCIAL) PARA A PRODUÇÃO DE HIS</a:t>
            </a:r>
            <a:endParaRPr b="0" lang="en-US" sz="2400" spc="-1" strike="noStrike">
              <a:solidFill>
                <a:srgbClr val="000000"/>
              </a:solidFill>
              <a:latin typeface="Frutiger 55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FORMAS JURÍDICAS DE DESTINAÇÃO DO USO ( Nos termos do Código Civil é um direito real)DE IMÓVEIS URBANOS  PELOS PROPRIETÁRIOS OU POSSUIDORES  PARA EMPREENDEDORES DE  PRODUÇÃO DE HIS </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APTAÇÃO DE RECURSOS PARA A PRODUÇÃO DE HIS (  Ex – Outorga Onerosa do Direito de Construir)</a:t>
            </a: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OBSERVAÇÃO : A OPERAÇÃO URBANA CONSORCIADA EM GRANDES CIDADES EM ESPECIAL PODEM SER UTILIZADAS TAMBÉM PARA A PRODUÇÃO DE HIS , URBANIZAÇÃO DE FAVELAS </a:t>
            </a:r>
            <a:endParaRPr b="0" lang="en-US" sz="2400" spc="-1" strike="noStrike">
              <a:solidFill>
                <a:srgbClr val="000000"/>
              </a:solidFill>
              <a:latin typeface="Frutiger 55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844640"/>
            <a:ext cx="9144000" cy="1584360"/>
          </a:xfrm>
          <a:prstGeom prst="rect">
            <a:avLst/>
          </a:prstGeom>
          <a:ln w="0">
            <a:noFill/>
          </a:ln>
        </p:spPr>
      </p:pic>
      <p:sp>
        <p:nvSpPr>
          <p:cNvPr id="48" name="PlaceHolder 1"/>
          <p:cNvSpPr>
            <a:spLocks noGrp="1"/>
          </p:cNvSpPr>
          <p:nvPr>
            <p:ph type="subTitle"/>
          </p:nvPr>
        </p:nvSpPr>
        <p:spPr>
          <a:xfrm>
            <a:off x="826920" y="1988640"/>
            <a:ext cx="7777440" cy="175428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ffffff"/>
                </a:solidFill>
                <a:latin typeface="Frutiger 55 Roman"/>
              </a:rPr>
              <a:t>Os Componentes Básicos da Política de Acesso à Terra e Regularização Fundiária</a:t>
            </a:r>
            <a:endParaRPr b="0" lang="en-US" sz="3600" spc="-1" strike="noStrike">
              <a:solidFill>
                <a:srgbClr val="000000"/>
              </a:solidFill>
              <a:latin typeface="Frutiger 55 Roman"/>
            </a:endParaRPr>
          </a:p>
        </p:txBody>
      </p:sp>
      <p:sp>
        <p:nvSpPr>
          <p:cNvPr id="49" name=""/>
          <p:cNvSpPr/>
          <p:nvPr/>
        </p:nvSpPr>
        <p:spPr>
          <a:xfrm>
            <a:off x="6372360" y="3716280"/>
            <a:ext cx="27716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Nelson Saule Jún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Paulo Romei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Equipe Direito  à Cidade do Instituto Póli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5" name="PlaceHolder 2"/>
          <p:cNvSpPr>
            <a:spLocks noGrp="1"/>
          </p:cNvSpPr>
          <p:nvPr>
            <p:ph/>
          </p:nvPr>
        </p:nvSpPr>
        <p:spPr>
          <a:xfrm>
            <a:off x="457200" y="1600200"/>
            <a:ext cx="8229600" cy="4711680"/>
          </a:xfrm>
          <a:prstGeom prst="rect">
            <a:avLst/>
          </a:prstGeom>
          <a:noFill/>
          <a:ln w="0">
            <a:noFill/>
          </a:ln>
        </p:spPr>
        <p:txBody>
          <a:bodyPr lIns="0" rIns="0" tIns="0" bIns="0" anchor="t">
            <a:normAutofit fontScale="99000"/>
          </a:bodyPr>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VERIFICAR SE O PLANO DIRETOR CONTÉM OU NÃO A IDENTIFICAÇÃO, MAPEAMENTO E DEMARCAÇÃ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  IMÓVEIS URBANOS  NÃO UTILIZADOS, NÃO EDIFICADOS, SUBUTILIZADOS  NOS TERMOS DO ESTATUTO DA CIDADE  PARA A APLICAÇÃO DOS INSTRUMENTOS DO PARCELAMENTO, EDIFICAÇÃO OU UTILIZAÇÃO COMPULSÓRI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IPTU PROGRESSIVO NO TEMPO</a:t>
            </a:r>
            <a:endParaRPr b="0" lang="en-US" sz="26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SAPROPRIAÇÃO PARA FINS DE REFORMA URBANA COM PAGAMENTO EM TÍTULOS DE DÍVIDA PÚBLICA</a:t>
            </a:r>
            <a:endParaRPr b="0" lang="en-US" sz="2600" spc="-1" strike="noStrike">
              <a:solidFill>
                <a:srgbClr val="000000"/>
              </a:solidFill>
              <a:latin typeface="Frutiger 55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OBSERVAÇÃO: CASO O PLANO DIRETOR TENHA DELIMITADO ESTAS ÁREAS , IMPORTANTE  VERIFICAR SE  JÁ FOI PREVISTA A AUTO APLICAÇÃO  DESTES INSTRUMENTOS  PARA O CUMPRIMENTO DA FUNÇÃO SOCIAL DA PROPRIEDADE  URBANA, OU SE FOI EDITADA  OU NÃO  A LEI ESPECÍFICA MENCIONADA NO ARTIGO 182 DA C.F.   </a:t>
            </a:r>
            <a:endParaRPr b="0" lang="en-US" sz="2800" spc="-1" strike="noStrike">
              <a:solidFill>
                <a:srgbClr val="000000"/>
              </a:solidFill>
              <a:latin typeface="Frutiger 55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8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VERIFICAR SE O PLANO DIRETOR OU LEGISLAÇÃO ESPECIFÍCA  DEMARCOU ESTAS ÁREAS COMO ZONAS ESPECIAIS DE INTERESSE SOCIAL  OU CATEGORIAS SIMILARES  PARA VIABILIZAR ÁREAS DESTINADAS A PRODUÇÃO DE HIS</a:t>
            </a:r>
            <a:endParaRPr b="0" lang="en-US" sz="2800" spc="-1" strike="noStrike">
              <a:solidFill>
                <a:srgbClr val="000000"/>
              </a:solidFill>
              <a:latin typeface="Frutiger 55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91" name="PlaceHolder 2"/>
          <p:cNvSpPr>
            <a:spLocks noGrp="1"/>
          </p:cNvSpPr>
          <p:nvPr>
            <p:ph/>
          </p:nvPr>
        </p:nvSpPr>
        <p:spPr>
          <a:xfrm>
            <a:off x="457200" y="1599840"/>
            <a:ext cx="8229600" cy="513396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ABELECIMENTO OU NÃO PELO PLANO DIRETOR   DE  UM PLANO DE EXTENSÃO URBANA CONTENDO AS EXIGÊNCIAS  DE INFRA-ESTRUTURA E EQUIPAMENTOS PARA A  TRANSFORMAÇÃO DE ÁREA RURAL EM ÁREA DE EXPANSÃO URBANA , E DAS EXIGÊNCIAS  DE PARCELAMENTO DO SOLO </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 PLANO MUNICIPAL DE HABITAÇÃO</a:t>
            </a:r>
            <a:endParaRPr b="0" lang="en-US" sz="2600" spc="-1" strike="noStrike">
              <a:solidFill>
                <a:srgbClr val="ffffff"/>
              </a:solidFill>
              <a:latin typeface="Frutiger-Bold"/>
            </a:endParaRPr>
          </a:p>
        </p:txBody>
      </p:sp>
      <p:sp>
        <p:nvSpPr>
          <p:cNvPr id="9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STABELECIMENTO OU NÃO NO  PLANO DIRETOR OU NA LEGISLAÇÃO SOBRE PARCELAMENTO DO SOLO DA OBRIGATORIEDADE PARA PARCELAMENTO DO SOLO URBANO DA DESTINAÇÃO DE LOTES URBANOS OU UNIDADES HABITACIONAIS DE INTERESSE SOCIAL NA ÁREA OBJETO DO PARCELAMENTO OU NAS ÁREAS DEFINIDAS COMO ZEIS PARA PRODUÇÃO DE HIS OU REG. FUNDIÁRIA.</a:t>
            </a:r>
            <a:endParaRPr b="0" lang="en-US" sz="2800" spc="-1" strike="noStrike">
              <a:solidFill>
                <a:srgbClr val="000000"/>
              </a:solidFill>
              <a:latin typeface="Frutiger 55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5" name="PlaceHolder 2"/>
          <p:cNvSpPr>
            <a:spLocks noGrp="1"/>
          </p:cNvSpPr>
          <p:nvPr>
            <p:ph/>
          </p:nvPr>
        </p:nvSpPr>
        <p:spPr>
          <a:xfrm>
            <a:off x="457200" y="1600200"/>
            <a:ext cx="8229600" cy="4626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Frutiger 55 Roman"/>
              </a:rPr>
              <a:t>PARA A REGULARIZAÇÃO FUNDIÁRIA</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VERIFICAR O  TRATAMENTO  DA REGULARIZAÇÃO FUNDIÁRIA DE ASSENTAMENTOS DE  POPULAÇÃO DE BAIXA RENDA OU DE POPULAÇÕES TRADICIONAIS NO PLANO DIRETOR OU  EM LEGISLAÇÃO  DE USO E OCUPAÇÃO</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AS TIPOLOGIAS DAS OCUPAÇÕES EXISTENTES NA ÁREA URBANA E  RURAL DO MUNICÍPIO  -  EXEMPLO  FAVELAS, CONJUNTOS HABITACIONAIS , COMUNIDADES TRADICIONAIS,  </a:t>
            </a:r>
            <a:endParaRPr b="0" lang="en-US" sz="2600" spc="-1" strike="noStrike">
              <a:solidFill>
                <a:srgbClr val="000000"/>
              </a:solidFill>
              <a:latin typeface="Frutiger 55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 </a:t>
            </a:r>
            <a:r>
              <a:rPr b="0" lang="en-GB" sz="2800" spc="-1" strike="noStrike">
                <a:solidFill>
                  <a:srgbClr val="000000"/>
                </a:solidFill>
                <a:latin typeface="Frutiger 55 Roman"/>
              </a:rPr>
              <a:t>IDENTIFICAÇÃO, MAPEAMENTO E DEMARCAÇÃO   DAS OCUPAÇOES:  FAVELAS, LOTEAMENTOS IRREGULARES, CONJUNTOS HABITACIONAIS , CORTIÇOS , REMANESCENTES DE QUILOMBOS,  POPULAÇÕES TRADICIONAIS  NAS ÁREAS PÚBLICAS E PRIVADAS PARA A APLICAÇÃO DOS INSTRUMENTOS DE REGULARIZAÇÃO FUNDIÁRIA TAIS COMO: </a:t>
            </a:r>
            <a:endParaRPr b="0" lang="en-US" sz="2800" spc="-1" strike="noStrike">
              <a:solidFill>
                <a:srgbClr val="000000"/>
              </a:solidFill>
              <a:latin typeface="Frutiger 55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9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 </a:t>
            </a:r>
            <a:r>
              <a:rPr b="0" lang="en-GB" sz="3200" spc="-1" strike="noStrike">
                <a:solidFill>
                  <a:srgbClr val="000000"/>
                </a:solidFill>
                <a:latin typeface="Frutiger 55 Roman"/>
              </a:rPr>
              <a:t>PLANO DE URBANIZAÇÃO E REG. FUNDIÁRIA,USUCAPIÃO URBANO, CONCESSÃO DE DIREITO REAL DE USO, COMPRA E VENDA,</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EMARCAÇÃO URBANÍSTICA, CONCESSÃO DE USO ESPECIAL PARA FINS DE MORADIA</a:t>
            </a:r>
            <a:endParaRPr b="0" lang="en-US" sz="3200" spc="-1" strike="noStrike">
              <a:solidFill>
                <a:srgbClr val="000000"/>
              </a:solidFill>
              <a:latin typeface="Frutiger 55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MARCAÇÃO DESTES ASSENTAMENTOS OU IMÓVEIS COMO ZONAS ESPECIAIS DE INTERESSE SOCIAL, OU DE PROTEÇÃO DE TERRITÓRIOS ÉTNICOS, DE PATRIMÔNIO HISTÓRICO , CULTURAL.</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E CRITÉRIOS PARA A DEFINIÇÃO DAS ÁREAS OCUPADAS QUE SERÃO OBJETO DE REGULARIZAÇÃO FUNDIÁRIA </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ADOÇÃO DOS PLANOS DE REGULARIZAÇÃO FUNDIÁRIA PARA O ESTABELECIMENTO DE NORMAS ESPECIAIS DE USO, OCUPAÇÃO, PARCELAMENTO E EDIFICAÇÃO NAS ÁREAS OBJETO DE REGULARIZAÇÃO</a:t>
            </a:r>
            <a:r>
              <a:rPr b="0" lang="en-GB" sz="3200" spc="-1" strike="noStrike">
                <a:solidFill>
                  <a:srgbClr val="000000"/>
                </a:solidFill>
                <a:latin typeface="Frutiger 55 Roman"/>
              </a:rPr>
              <a:t>.</a:t>
            </a:r>
            <a:endParaRPr b="0" lang="en-US" sz="3200" spc="-1" strike="noStrike">
              <a:solidFill>
                <a:srgbClr val="000000"/>
              </a:solidFill>
              <a:latin typeface="Frutiger 55 Roman"/>
            </a:endParaRPr>
          </a:p>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Times New Roman"/>
              </a:rPr>
              <a:t>EXISTÊNCIA DE NORMAS AMBIENTAIS ESPECIAIS PARA  VIABILIZAR A REGULARIZAÇÃO FUNDIÁRIA DE OCUPAÇÕES SITUADAS EM ÁREAS CONSOLIDADAS URBANAS CONSIDERADAS DE PRESERVAÇÃO AMBIENTAL TAIS COMO APP, MANANCIAIS.</a:t>
            </a:r>
            <a:endParaRPr b="0" lang="en-US" sz="2600" spc="-1" strike="noStrike">
              <a:solidFill>
                <a:srgbClr val="000000"/>
              </a:solidFill>
              <a:latin typeface="Frutiger 55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04560"/>
            <a:ext cx="8229600" cy="114444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Componentes do Plano Municipal de Habitação</a:t>
            </a:r>
            <a:endParaRPr b="0" lang="en-US" sz="4000" spc="-1" strike="noStrike">
              <a:solidFill>
                <a:srgbClr val="ffffff"/>
              </a:solidFill>
              <a:latin typeface="Frutiger-Bold"/>
            </a:endParaRPr>
          </a:p>
        </p:txBody>
      </p:sp>
      <p:sp>
        <p:nvSpPr>
          <p:cNvPr id="5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INCÍPIOS</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BJETIVOS</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HISTÓRICO E LEVANTAMENTO FUNDIÁRIO  ( Perfil Urbano ou Rural)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MEDIDAS NORMATIVAS    - MEDIDAS NA ESFERA  LEGISLATIVA  E NA ESFERA ADMISTRATIVA ( Decretos, Portarias )</a:t>
            </a:r>
            <a:endParaRPr b="0" lang="en-US" sz="3200" spc="-1" strike="noStrike">
              <a:solidFill>
                <a:srgbClr val="000000"/>
              </a:solidFill>
              <a:latin typeface="Frutiger 55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REGULAMENTAÇÃO E AUTORIZAÇÃO PARA A APLICAÇÃO NAS ÁREAS PÚBLICAS MUNICIPAIS  A CONCESSÃO DE DIREITO REAL DE USO E DA CONCESSÃO DE USO ESPECIAL PARA FINS DE MORADIA </a:t>
            </a: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FORMAS DE APOIO DO MUNICÍPIO AS COMUNIDADES  DE BAIXA RENDA  NOS PROCESSOS DE USUCAPIÃO URBANO – PRESTAÇÃO DE ASSISTÊNCIA TÉCNICA E JURÍDICA</a:t>
            </a:r>
            <a:endParaRPr b="0" lang="en-US" sz="2600" spc="-1" strike="noStrike">
              <a:solidFill>
                <a:srgbClr val="000000"/>
              </a:solidFill>
              <a:latin typeface="Frutiger 55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7"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ABELECIMENTO DE INSTRUMENTOS E CONTRAPARTIDAS PARA A REGULARIZAÇÃO FUNDIÁRIA ONEROSA – Ex outorga onerosa de alteração de uso</a:t>
            </a:r>
            <a:endParaRPr b="0" lang="en-US" sz="3200" spc="-1" strike="noStrike">
              <a:solidFill>
                <a:srgbClr val="000000"/>
              </a:solidFill>
              <a:latin typeface="Frutiger 55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PASSOS PARA ELABORAÇÃO DO</a:t>
            </a:r>
            <a:br>
              <a:rPr sz="2600"/>
            </a:br>
            <a:r>
              <a:rPr b="0" lang="en-GB" sz="2600" spc="-1" strike="noStrike">
                <a:solidFill>
                  <a:srgbClr val="000000"/>
                </a:solidFill>
                <a:latin typeface="Arial"/>
              </a:rPr>
              <a:t>PLANO MUNICIPAL DE HABITAÇÃO</a:t>
            </a:r>
            <a:endParaRPr b="0" lang="en-US" sz="2600" spc="-1" strike="noStrike">
              <a:solidFill>
                <a:srgbClr val="ffffff"/>
              </a:solidFill>
              <a:latin typeface="Frutiger-Bold"/>
            </a:endParaRPr>
          </a:p>
        </p:txBody>
      </p:sp>
      <p:sp>
        <p:nvSpPr>
          <p:cNvPr id="10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IDENTIFICAÇÃO E MAPEAMENTO DOS  CONFLITOS FUNDIÁRIOS URBANOS E RURAIS</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DEFINIÇÃO  DE PROCEDIMENTOS PARA ATUAÇÃO NOS CONFLITOS FUNDIÁRIOS URBANOS E RURAIS ( SE É CASO DE DESAPROPRIÇÃO,  DE REMOÇÃO, DE DEMARCAÇÃO DE ZONAS ESPECIAIS  DE INTERESSE SOCIAL , DE PROTEÇÃO AO PATRIMÔNIO HISTÓRICO E CULTURAL, , DE PROMOVER AÇÕES NO JUDICIÁRIO)</a:t>
            </a:r>
            <a:endParaRPr b="0" lang="en-US" sz="2600" spc="-1" strike="noStrike">
              <a:solidFill>
                <a:srgbClr val="000000"/>
              </a:solidFill>
              <a:latin typeface="Frutiger 55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1" name="PlaceHolder 2"/>
          <p:cNvSpPr>
            <a:spLocks noGrp="1"/>
          </p:cNvSpPr>
          <p:nvPr>
            <p:ph/>
          </p:nvPr>
        </p:nvSpPr>
        <p:spPr>
          <a:xfrm>
            <a:off x="457200" y="1600200"/>
            <a:ext cx="8229600" cy="568944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REVISÃO DO PLANO DIRETOR E  DA  LEGISLAÇÃO URBANA PARA VIABILIZAR A EXECUÇÃO DO PLANO MUNICIPAL DE HABITAÇÃO, EM ESPECIAL PARA A APLICAÇÃO DOS INSTRUMENTOS DE POLÍTICA URBANA PARA AMPLIAR A OFERTA DE TERRA URBANA  EM ÁREAS URBANAS DOTADAS DE INFRA-ESTRUTURA E BEM LOCALIZADAS PARA A PRODUÇÃO DE HIS , BEM COMO PARA A APLICAÇÃO DOS INSTRUMENTOS DE REGULARIZAÇÃO FUNDIÁRIA</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3" name="PlaceHolder 2"/>
          <p:cNvSpPr>
            <a:spLocks noGrp="1"/>
          </p:cNvSpPr>
          <p:nvPr>
            <p:ph/>
          </p:nvPr>
        </p:nvSpPr>
        <p:spPr>
          <a:xfrm>
            <a:off x="411120" y="1593360"/>
            <a:ext cx="8229600" cy="4527720"/>
          </a:xfrm>
          <a:prstGeom prst="rect">
            <a:avLst/>
          </a:prstGeom>
          <a:noFill/>
          <a:ln w="0">
            <a:noFill/>
          </a:ln>
        </p:spPr>
        <p:txBody>
          <a:bodyPr lIns="0" rIns="0" tIns="0" bIns="0" anchor="t">
            <a:normAutofit/>
          </a:bodyPr>
          <a:p>
            <a:pPr marL="341280" indent="-341280">
              <a:lnSpc>
                <a:spcPct val="95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Times New Roman"/>
              </a:rPr>
              <a:t>ADOÇÃO  NAS NORMAS DE PARCELAMENTO DO SOLO COMO CONTRAPARTIDA OBRIGATÓRIO  PARA NOVOS EMPREENDIMENTOS IMOBILIÁRIOS DE MÉDIA E ALTA RENDA  NA ÁREA URBANA A DESTINAÇÃO DE LOTES, UNIDADES HABITACIONAIS DE INTERESSE SOCIAL NO LOCAL DO EMPREENDIMENTO OU NAS ÁREAS DEFINIDAS COMO ZEIS .</a:t>
            </a:r>
            <a:endParaRPr b="0" lang="en-US" sz="2800" spc="-1" strike="noStrike">
              <a:solidFill>
                <a:srgbClr val="000000"/>
              </a:solidFill>
              <a:latin typeface="Frutiger 55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Legislativas  no Plano Municipal de Habitação</a:t>
            </a:r>
            <a:endParaRPr b="0" lang="en-US" sz="4000" spc="-1" strike="noStrike">
              <a:solidFill>
                <a:srgbClr val="ffffff"/>
              </a:solidFill>
              <a:latin typeface="Frutiger-Bold"/>
            </a:endParaRPr>
          </a:p>
        </p:txBody>
      </p:sp>
      <p:sp>
        <p:nvSpPr>
          <p:cNvPr id="115" name="PlaceHolder 2"/>
          <p:cNvSpPr>
            <a:spLocks noGrp="1"/>
          </p:cNvSpPr>
          <p:nvPr>
            <p:ph/>
          </p:nvPr>
        </p:nvSpPr>
        <p:spPr>
          <a:xfrm>
            <a:off x="457200" y="1599840"/>
            <a:ext cx="8229600" cy="4599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STABELECER NORMAS AMBIENTAIS ESPECIAIS PARA  VIABILIZAR A REGULARIZAÇÃO FUNDIÁRIA DE OCUPAÇÕES SITUADAS EM ÁREAS CONSOLIDADAS URBANAS CONSIDERADAS DE PRESERVAÇÃO AMBIENTAL TAIS COMO APP, MANANCIAIS.</a:t>
            </a:r>
            <a:endParaRPr b="0" lang="en-US" sz="28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ELABORAÇÃO DO PLANO MUNICIPAL DE SANEAMENTO EM CONSONÂNCIA COM O PLANO MUNICIPAL DE HABITAÇÃO</a:t>
            </a:r>
            <a:endParaRPr b="0" lang="en-US" sz="2800" spc="-1" strike="noStrike">
              <a:solidFill>
                <a:srgbClr val="000000"/>
              </a:solidFill>
              <a:latin typeface="Frutiger 55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17" name="PlaceHolder 2"/>
          <p:cNvSpPr>
            <a:spLocks noGrp="1"/>
          </p:cNvSpPr>
          <p:nvPr>
            <p:ph/>
          </p:nvPr>
        </p:nvSpPr>
        <p:spPr>
          <a:xfrm>
            <a:off x="457200" y="1600200"/>
            <a:ext cx="8229600" cy="541800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ELEBRAÇÃO DE CONSÓRCIO PÚBLICO NO CASO DE UMA REGIÃO FORMADA POR PEQUENOS MUNICÍPIOS   PARA A  GESTÃO TERRITORIAL , PRODUÇÃO DE HABITAÇÃO DE INTERESSE SOCIAL , E REGULARIZAÇÃO FUNDIÁRIA  DAS ÁREAS OCUPADAS POR POPULAÇÃO DE BAIXA RENDA OU TRADICIONAL</a:t>
            </a: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CONSTITUIR UM CADASTRO ( DE PREFERÊNCIA GEOREFERENCIADO DAS ÁREAS  PÚBLICAS OCUPADAS POR POPULAÇÃO DE BAIXA RENDA OU  TRADICIONAIS</a:t>
            </a: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Frutiger 55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19" name="PlaceHolder 2"/>
          <p:cNvSpPr>
            <a:spLocks noGrp="1"/>
          </p:cNvSpPr>
          <p:nvPr>
            <p:ph/>
          </p:nvPr>
        </p:nvSpPr>
        <p:spPr>
          <a:xfrm>
            <a:off x="457200" y="1600200"/>
            <a:ext cx="8229600" cy="4998960"/>
          </a:xfrm>
          <a:prstGeom prst="rect">
            <a:avLst/>
          </a:prstGeom>
          <a:noFill/>
          <a:ln w="0">
            <a:noFill/>
          </a:ln>
        </p:spPr>
        <p:txBody>
          <a:bodyPr lIns="0" rIns="0" tIns="0" bIns="0" anchor="t">
            <a:normAutofit fontScale="99000"/>
          </a:bodyPr>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CONSTITUIR UMA MAPA DOS CONFLITOS FUNDIÁRIOS URBANO E RURAL  E FORMA UMA ESFERA PÚBLICA PARA A MEDIAÇÃO E SOLUÇÃO DESTES CONFLITOS FORMADO POR DIVERSOS SEGMENTOS DA SOCIEDADE E PELOS ÓRGÃOS E INSITUIÇOES PÚBLICAS COMPETENTES</a:t>
            </a:r>
            <a:endParaRPr b="0" lang="en-US" sz="2800" spc="-1" strike="noStrike">
              <a:solidFill>
                <a:srgbClr val="000000"/>
              </a:solidFill>
              <a:latin typeface="Frutiger 55 Roman"/>
            </a:endParaRPr>
          </a:p>
          <a:p>
            <a:pPr marL="3376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Frutiger 55 Roman"/>
            </a:endParaRPr>
          </a:p>
          <a:p>
            <a:pPr marL="337680" indent="-3376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Frutiger 55 Roman"/>
              </a:rPr>
              <a:t>CONSTITUIR UM MAPA DAS ÁREAS DE RISCO DE VIDA E SÁUDE PÚBLICA, PARA O DESENVOLVIMENTO DE AÇÕES DE CONTENÇÃO OU ELIMINAÇÃO DO RISCO</a:t>
            </a:r>
            <a:endParaRPr b="0" lang="en-US" sz="2800" spc="-1" strike="noStrike">
              <a:solidFill>
                <a:srgbClr val="000000"/>
              </a:solidFill>
              <a:latin typeface="Frutiger 55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21" name="PlaceHolder 2"/>
          <p:cNvSpPr>
            <a:spLocks noGrp="1"/>
          </p:cNvSpPr>
          <p:nvPr>
            <p:ph/>
          </p:nvPr>
        </p:nvSpPr>
        <p:spPr>
          <a:xfrm>
            <a:off x="457200" y="1599840"/>
            <a:ext cx="8229600" cy="479268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CELEBRAÇÃO DE CONVÊNIOS COM A SECRETARIA DO PATRIMÔNIO DA UNIÃO PARA  A UTILIZAÇÃO DE TERRAS DA UNIÃO PARA  PRODUÇÃO DE HIS E PARA FINS DE REGULARIZAÇÃO FUNDIÁRIA DAS OCUPAÇOES  EM TERRA DA UNIÃO</a:t>
            </a:r>
            <a:endParaRPr b="0" lang="en-US" sz="26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CELEBRAÇÃO DE CONVÊNIOS DE COOPERAÇÃO COM ASSOCIAÇÕES DE REGISTRÁRIOS PARA APOIO AOS PROCESSOS DE REGULARIZAÇÃO FUNDIÁRIA.</a:t>
            </a:r>
            <a:endParaRPr b="0" lang="en-US" sz="2600" spc="-1" strike="noStrike">
              <a:solidFill>
                <a:srgbClr val="000000"/>
              </a:solidFill>
              <a:latin typeface="Frutiger 55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00000"/>
                </a:solidFill>
                <a:latin typeface="Times New Roman"/>
                <a:ea typeface="Lucida Sans Unicode"/>
              </a:rPr>
              <a:t>MEDIDAS  ADMINISTRATIVAS DO PLANO MUNICIPAL DE HABITAÇÃO</a:t>
            </a:r>
            <a:endParaRPr b="0" lang="en-US" sz="3200" spc="-1" strike="noStrike">
              <a:solidFill>
                <a:srgbClr val="ffffff"/>
              </a:solidFill>
              <a:latin typeface="Frutiger-Bold"/>
            </a:endParaRPr>
          </a:p>
        </p:txBody>
      </p:sp>
      <p:sp>
        <p:nvSpPr>
          <p:cNvPr id="12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CONSTITUIÇÃO DO CONSELHO MUNICIPAL DAS CIDADES COM PODER DE DECISÃO  E CARÁTER DEMOCRÁTICO  , CONTENDO  COMITÊ DE POLÍTICA HABITACIONAL  E COMISSÃO DE CONFLITOS FUNDIÁRIOS URBANO E RURAL </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3200"/>
            </a:br>
            <a:r>
              <a:rPr b="0" lang="en-GB" sz="3200" spc="-1" strike="noStrike">
                <a:solidFill>
                  <a:srgbClr val="000000"/>
                </a:solidFill>
                <a:latin typeface="Frutiger 55 Roman"/>
              </a:rPr>
              <a:t>MEDIDAS ADMINISTRATIVAS  </a:t>
            </a:r>
            <a:endParaRPr b="0" lang="en-US" sz="3200" spc="-1" strike="noStrike">
              <a:solidFill>
                <a:srgbClr val="ffffff"/>
              </a:solidFill>
              <a:latin typeface="Frutiger-Bold"/>
            </a:endParaRPr>
          </a:p>
        </p:txBody>
      </p:sp>
      <p:sp>
        <p:nvSpPr>
          <p:cNvPr id="5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OGRAMAS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INSTRUMENTOS</a:t>
            </a:r>
            <a:endParaRPr b="0" lang="en-US" sz="3200" spc="-1" strike="noStrike">
              <a:solidFill>
                <a:srgbClr val="000000"/>
              </a:solidFill>
              <a:latin typeface="Frutiger 55 Roman"/>
            </a:endParaRPr>
          </a:p>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RGANIZAÇÃO   INSTITUCIONAL  -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APEL E ATRIBUIÇÕES DE ÓRGÃOS  SECRETARIA, CONSELHO , COMITÊS, COMISSÕES</a:t>
            </a:r>
            <a:endParaRPr b="0" lang="en-US" sz="3200" spc="-1" strike="noStrike">
              <a:solidFill>
                <a:srgbClr val="000000"/>
              </a:solidFill>
              <a:latin typeface="Frutiger 55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MEDIDAS FINANCEIRAS</a:t>
            </a:r>
            <a:endParaRPr b="0" lang="en-US" sz="3200" spc="-1" strike="noStrike">
              <a:solidFill>
                <a:srgbClr val="ffffff"/>
              </a:solidFill>
              <a:latin typeface="Frutiger-Bold"/>
            </a:endParaRPr>
          </a:p>
        </p:txBody>
      </p:sp>
      <p:sp>
        <p:nvSpPr>
          <p:cNvPr id="55"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ESTIMATIVA DE CUSTOS    DAS AÇÕES PARA O ACESSO A TERRA URBANIZADA E REGULARIZAÇÃO FUNDIÁRIA</a:t>
            </a:r>
            <a:endParaRPr b="0" lang="en-US" sz="3200" spc="-1" strike="noStrike">
              <a:solidFill>
                <a:srgbClr val="000000"/>
              </a:solidFill>
              <a:latin typeface="Frutiger 55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utiger-Bold"/>
              </a:rPr>
              <a:t>Medidas Financeiras</a:t>
            </a:r>
            <a:endParaRPr b="0" lang="en-US" sz="4000" spc="-1" strike="noStrike">
              <a:solidFill>
                <a:srgbClr val="ffffff"/>
              </a:solidFill>
              <a:latin typeface="Frutiger-Bold"/>
            </a:endParaRPr>
          </a:p>
        </p:txBody>
      </p:sp>
      <p:sp>
        <p:nvSpPr>
          <p:cNvPr id="57" name="PlaceHolder 2"/>
          <p:cNvSpPr>
            <a:spLocks noGrp="1"/>
          </p:cNvSpPr>
          <p:nvPr>
            <p:ph/>
          </p:nvPr>
        </p:nvSpPr>
        <p:spPr>
          <a:xfrm>
            <a:off x="457200" y="1600200"/>
            <a:ext cx="8229600" cy="4541760"/>
          </a:xfrm>
          <a:prstGeom prst="rect">
            <a:avLst/>
          </a:prstGeom>
          <a:noFill/>
          <a:ln w="0">
            <a:noFill/>
          </a:ln>
        </p:spPr>
        <p:txBody>
          <a:bodyPr lIns="0" rIns="0" tIns="0" bIns="0" anchor="t">
            <a:normAutofit fontScale="98000"/>
          </a:bodyPr>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RECURSOS</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dos de Des. Urbano ou Habitacional</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ORÇAMENTO</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ARCERIA PÚBLICO   PRIVADA</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APLICAÇÃO DOS INSTRUMENTOS DE INDUÇÃO DA POLÍTICA URBANA</a:t>
            </a:r>
            <a:endParaRPr b="0" lang="en-US" sz="3200" spc="-1" strike="noStrike">
              <a:solidFill>
                <a:srgbClr val="000000"/>
              </a:solidFill>
              <a:latin typeface="Frutiger 55 Roman"/>
            </a:endParaRPr>
          </a:p>
          <a:p>
            <a:pPr marL="334440" indent="-33444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CONTRAPARTIDAS DO SETOR PRIVADO  PARA IMPLANTAÇÃO DE EMPREENDIMENTOS IMOBILIÁRIOS</a:t>
            </a:r>
            <a:endParaRPr b="0" lang="en-US" sz="3200" spc="-1" strike="noStrike">
              <a:solidFill>
                <a:srgbClr val="000000"/>
              </a:solidFill>
              <a:latin typeface="Frutiger 55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Frutiger 55 Roman"/>
              </a:rPr>
              <a:t>PRINCÍPIOS     E  FUNDAMENTOS  DA POLÍTICA  DE  ACESSO A TERRA URBANA E REGULARIZAÇÃO FUNDIÁRIA</a:t>
            </a:r>
            <a:endParaRPr b="0" lang="en-US" sz="2400" spc="-1" strike="noStrike">
              <a:solidFill>
                <a:srgbClr val="ffffff"/>
              </a:solidFill>
              <a:latin typeface="Frutiger-Bold"/>
            </a:endParaRPr>
          </a:p>
        </p:txBody>
      </p:sp>
      <p:sp>
        <p:nvSpPr>
          <p:cNvPr id="59"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ÇÕES SOCIAIS DA CIDADE</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FUNÇÃO SOCIAL DA PROPRIEDADE URBANA E RURAL</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CIDADE</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MORADIA</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À ALIMENTAÇÃO</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REFORMA AGRÁRIA </a:t>
            </a: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DIREITO AO MEIO AMBIENTE</a:t>
            </a:r>
            <a:endParaRPr b="0" lang="en-US" sz="3200" spc="-1" strike="noStrike">
              <a:solidFill>
                <a:srgbClr val="000000"/>
              </a:solidFill>
              <a:latin typeface="Frutiger 55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1"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0">
              <a:lnSpc>
                <a:spcPct val="93000"/>
              </a:lnSpc>
              <a:spcBef>
                <a:spcPts val="79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Frutiger 55 Roman"/>
            </a:endParaRPr>
          </a:p>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PROMOVER O ACESSO A TERRA URBANA COM LOCALIZAÇÃO E INFRA-ESTRUTURA ADEQUADA PARA  A POPULAÇÃO DE BAIXA  RENDA COMO MEIO DE EFETIVAÇÃO DO DIREITO À MORADIA ADEQUADA</a:t>
            </a:r>
            <a:endParaRPr b="0" lang="en-US" sz="3200" spc="-1" strike="noStrike">
              <a:solidFill>
                <a:srgbClr val="000000"/>
              </a:solidFill>
              <a:latin typeface="Frutiger 55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60280"/>
            <a:ext cx="8229600" cy="1144800"/>
          </a:xfrm>
          <a:prstGeom prst="rect">
            <a:avLst/>
          </a:prstGeom>
          <a:noFill/>
          <a:ln w="0">
            <a:noFill/>
          </a:ln>
        </p:spPr>
        <p:txBody>
          <a:bodyPr lIns="0" rIns="0" tIns="0" bIns="0" anchor="ctr">
            <a:noAutofit/>
          </a:bodyPr>
          <a:p>
            <a:pPr marL="341280" indent="-341280" algn="just">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Frutiger 55 Roman"/>
              </a:rPr>
              <a:t>OBJETIVOS  DA POLÍTICA DE ACESSO À TERRA E REG. FUNDIÁRIA</a:t>
            </a:r>
            <a:endParaRPr b="0" lang="en-US" sz="2600" spc="-1" strike="noStrike">
              <a:solidFill>
                <a:srgbClr val="ffffff"/>
              </a:solidFill>
              <a:latin typeface="Frutiger-Bold"/>
            </a:endParaRPr>
          </a:p>
        </p:txBody>
      </p:sp>
      <p:sp>
        <p:nvSpPr>
          <p:cNvPr id="63" name="PlaceHolder 2"/>
          <p:cNvSpPr>
            <a:spLocks noGrp="1"/>
          </p:cNvSpPr>
          <p:nvPr>
            <p:ph/>
          </p:nvPr>
        </p:nvSpPr>
        <p:spPr>
          <a:xfrm>
            <a:off x="457200" y="1599840"/>
            <a:ext cx="8229600" cy="452772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Frutiger 55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Frutiger 55 Roman"/>
              </a:rPr>
              <a:t>ATUAR DE FORMA INTEGRADA E ARTICULADA DO PONTO DE VISTA INSTITUCIONAL E FINANCEIRO , COM OS DEMAIS ENTES FEDERATIVOS, E INSTITUIÇÕES  COMPETENTES  ( REGISTRÁRIOS, MINISTÉRIO PÚBLICO, DEFENSORIA PÚBLICA)</a:t>
            </a:r>
            <a:endParaRPr b="0" lang="en-US" sz="3200" spc="-1" strike="noStrike">
              <a:solidFill>
                <a:srgbClr val="000000"/>
              </a:solidFill>
              <a:latin typeface="Frutiger 55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ollini</dc:creator>
  <dc:description/>
  <dc:language>en-US</dc:language>
  <cp:lastModifiedBy>Pollini</cp:lastModifiedBy>
  <cp:revision>0</cp:revision>
  <dc:subject/>
  <dc:title>Slide 1</dc:title>
</cp:coreProperties>
</file>